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45E2-28B3-493A-8E1B-0D6562E43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C069-9A11-4A3F-B9A1-EEB265296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0395-8DC3-496A-A074-DD7B28B12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23F4-BE34-4CD7-8703-9848A802E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E59A-5B66-4DBA-8F16-5DD4CE000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3BCA-357E-451A-BE9D-4F368E06A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6BAD-C514-44E5-A624-AA4A1B18D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3DDA-19B2-4464-A71C-328E8798B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8564-F83D-485C-91C8-DD427176E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09F3-003D-4865-836B-25DC20231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2A5-CDA0-4709-B474-DB5A3776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465-58BF-465E-BD42-35518FF0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9B3-EA0E-4153-9ABE-AB106AB1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561-3AEB-4471-8AB7-67345D2E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AC7-CC88-4FA8-904C-C670B618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FCC-0653-4A92-AED8-DDE1388A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4DD-8EFC-42BA-AA5C-E95C9F99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5E9-76B0-4C44-A403-12A85202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E09-9A62-4392-A351-A2B9BC3C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C05-F412-4B17-A9D5-B78C5129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763-1437-4D7C-B801-FC4E5C65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CD2-BDB6-4360-BD9E-EDE4B1C8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7DF8-1221-42D4-8B35-20E293AEE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OMOLECULES</a:t>
            </a:r>
            <a:br>
              <a:rPr sz="44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.k.a organic molecules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chemistr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9" descr="Sucrose_molecule_3d_model"/>
          <p:cNvPicPr/>
          <p:nvPr/>
        </p:nvPicPr>
        <p:blipFill>
          <a:blip r:embed="rId1"/>
          <a:stretch/>
        </p:blipFill>
        <p:spPr>
          <a:xfrm>
            <a:off x="2971800" y="3505320"/>
            <a:ext cx="3048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ucle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polym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de of (C, H, O, N, and Phosphorus (P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: DNA,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 blocks: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ic acids = storage of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01-coll-dna-knoll-l"/>
          <p:cNvPicPr/>
          <p:nvPr/>
        </p:nvPicPr>
        <p:blipFill>
          <a:blip r:embed="rId1"/>
          <a:stretch/>
        </p:blipFill>
        <p:spPr>
          <a:xfrm>
            <a:off x="3733920" y="4419720"/>
            <a:ext cx="16621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GANIC MOLECULES contain carbon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 can bond with a lot of different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can share one, two, or thre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ymer – large molecule that is a chain of small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olymer"/>
          <p:cNvPicPr/>
          <p:nvPr/>
        </p:nvPicPr>
        <p:blipFill>
          <a:blip r:embed="rId1"/>
          <a:stretch/>
        </p:blipFill>
        <p:spPr>
          <a:xfrm>
            <a:off x="2971800" y="3276720"/>
            <a:ext cx="27813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molecul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de of C, H, and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 block: Monosaccharide – simple sug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. glucose and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bohydrat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ysaccharide – large carbohydrate composed of multiple mono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. starch, glycogen, cellu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rbs =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76320" y="4114800"/>
            <a:ext cx="8686800" cy="2135160"/>
            <a:chOff x="76320" y="4114800"/>
            <a:chExt cx="8686800" cy="2135160"/>
          </a:xfrm>
        </p:grpSpPr>
        <p:grpSp>
          <p:nvGrpSpPr>
            <p:cNvPr id="61" name="Group 10"/>
            <p:cNvGrpSpPr/>
            <p:nvPr/>
          </p:nvGrpSpPr>
          <p:grpSpPr>
            <a:xfrm>
              <a:off x="76320" y="4191120"/>
              <a:ext cx="6095880" cy="2041560"/>
              <a:chOff x="76320" y="4191120"/>
              <a:chExt cx="6095880" cy="2041560"/>
            </a:xfrm>
          </p:grpSpPr>
          <p:pic>
            <p:nvPicPr>
              <p:cNvPr id="62" name="Picture 5" descr="POTATO"/>
              <p:cNvPicPr/>
              <p:nvPr/>
            </p:nvPicPr>
            <p:blipFill>
              <a:blip r:embed="rId1"/>
              <a:stretch/>
            </p:blipFill>
            <p:spPr>
              <a:xfrm>
                <a:off x="76320" y="4267080"/>
                <a:ext cx="2590560" cy="190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7" descr="fatty_liver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4191120"/>
                <a:ext cx="3352680" cy="204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" name="Picture 9" descr="CornPlant_Bush_L"/>
            <p:cNvPicPr/>
            <p:nvPr/>
          </p:nvPicPr>
          <p:blipFill>
            <a:blip r:embed="rId3"/>
            <a:stretch/>
          </p:blipFill>
          <p:spPr>
            <a:xfrm>
              <a:off x="6324480" y="4114800"/>
              <a:ext cx="2438640" cy="213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p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de mostly of C and H (with small amounts of 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: fats, oils, w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 blocks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pids = energy storage, in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800px-NCI_butter"/>
          <p:cNvPicPr/>
          <p:nvPr/>
        </p:nvPicPr>
        <p:blipFill>
          <a:blip r:embed="rId1"/>
          <a:stretch/>
        </p:blipFill>
        <p:spPr>
          <a:xfrm>
            <a:off x="152280" y="4800600"/>
            <a:ext cx="2667240" cy="177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7266434"/>
          <p:cNvPicPr/>
          <p:nvPr/>
        </p:nvPicPr>
        <p:blipFill>
          <a:blip r:embed="rId2"/>
          <a:stretch/>
        </p:blipFill>
        <p:spPr>
          <a:xfrm>
            <a:off x="36576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wesson"/>
          <p:cNvPicPr/>
          <p:nvPr/>
        </p:nvPicPr>
        <p:blipFill>
          <a:blip r:embed="rId3"/>
          <a:stretch/>
        </p:blipFill>
        <p:spPr>
          <a:xfrm>
            <a:off x="7526160" y="3657600"/>
            <a:ext cx="11080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, complex polym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sed of C, H, O, Nitrogen (N), and sometimes Sulfur 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: enzymes, insulin, hemogl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 blocks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ino acids are linked by peptid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tein = structure,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static.howstuffworks.com/gif/adam/images/en/active-vs-inactive-muscle-picture.jpg"/>
          <p:cNvPicPr/>
          <p:nvPr/>
        </p:nvPicPr>
        <p:blipFill>
          <a:blip r:embed="rId1"/>
          <a:srcRect l="0" t="12507" r="52008" b="4996"/>
          <a:stretch/>
        </p:blipFill>
        <p:spPr>
          <a:xfrm>
            <a:off x="304920" y="380880"/>
            <a:ext cx="2286000" cy="314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http://3.bp.blogspot.com/_MmHetZ5hXHs/Sf9Y9lhjeHI/AAAAAAAAB7g/x5Yu6cBbRVM/s400/iStock_whole+raw+chicken.jpg"/>
          <p:cNvPicPr/>
          <p:nvPr/>
        </p:nvPicPr>
        <p:blipFill>
          <a:blip r:embed="rId2"/>
          <a:stretch/>
        </p:blipFill>
        <p:spPr>
          <a:xfrm>
            <a:off x="5181480" y="762120"/>
            <a:ext cx="3810240" cy="2590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http://www.cipsm.de/en/publications/researchAreaF/2007/Biel_Function_and_Dysfunction_of_CNG_Channels/biel_anim.gif"/>
          <p:cNvPicPr/>
          <p:nvPr/>
        </p:nvPicPr>
        <p:blipFill>
          <a:blip r:embed="rId3"/>
          <a:stretch/>
        </p:blipFill>
        <p:spPr>
          <a:xfrm>
            <a:off x="2133720" y="3886200"/>
            <a:ext cx="40384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Arial"/>
              </a:rPr>
              <a:t>Protein</a:t>
            </a: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ZYME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a proteins that speed up chemical rx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y act as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y can be re-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ames of enzymes end in -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3:05:04Z</dcterms:created>
  <dc:creator>Mariel</dc:creator>
  <dc:description/>
  <dc:language>en-US</dc:language>
  <cp:lastModifiedBy> </cp:lastModifiedBy>
  <dcterms:modified xsi:type="dcterms:W3CDTF">2010-08-31T16:30:06Z</dcterms:modified>
  <cp:revision>10</cp:revision>
  <dc:subject/>
  <dc:title>Life Substances</dc:title>
</cp:coreProperties>
</file>